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5C54-1A88-43BF-A047-E406BDECD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0020-06AF-44A4-859F-9488D872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7B43-9CB8-4E26-9001-313681CF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8BE0-4754-4A7B-AF68-E3E81CE80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59D5-7174-459D-A7B7-377DC4D1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1C58-849F-4221-B4A7-D3586CE3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8465-06AF-426A-A3BA-9550F53E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A436-A639-4886-AC7C-6978A586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C78D-D43D-40FE-B970-3D2E8463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7770-61EA-4696-B9B8-1F82A453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F166-BA79-42AC-9D9B-EBBD9080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F322-050B-4B38-9B75-0D32A0D8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808D-F4A6-4D30-8932-A0511E3C8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Lamb of God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Lamb of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bearer of our sin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redeemer of the wor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rant us pe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60199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40:44Z</dcterms:created>
  <dc:creator>Anon Anon</dc:creator>
  <dc:description/>
  <dc:language>en-US</dc:language>
  <cp:lastModifiedBy>Anon Anon</cp:lastModifiedBy>
  <dcterms:modified xsi:type="dcterms:W3CDTF">2005-08-16T04:24:02Z</dcterms:modified>
  <cp:revision>10</cp:revision>
  <dc:subject/>
  <dc:title>PowerPoint Presentation</dc:title>
</cp:coreProperties>
</file>